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33D7-A93A-44D8-BC85-2182697D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0C2D-B3C5-4544-B462-01B25246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CE20-BBA5-4246-98EA-189B71CA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F278-E3E3-49A0-88B7-12443BF1D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55E0-907C-473C-A704-29DB9D4A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7902-BA93-4FBE-882B-278C6CC8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BD3E-A646-49C9-A8B9-965924A8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EC3E-538F-4546-B9B3-E4889676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6527-10C0-4BEC-865F-446B2901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607E-776F-47DE-B41B-FFFFC1BC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344A-D3F3-4053-AFFE-F3F0A66E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B17D-DBA2-4221-8480-CE860476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ED1A-1352-4B79-AACD-9F1DC96B9E3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560" y="5013360"/>
            <a:ext cx="8569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Monotype Corsiva"/>
              </a:rPr>
              <a:t>Развитие вниман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" name="Picture 10" descr=""/>
          <p:cNvPicPr/>
          <p:nvPr/>
        </p:nvPicPr>
        <p:blipFill>
          <a:blip r:embed="rId1"/>
          <a:stretch/>
        </p:blipFill>
        <p:spPr>
          <a:xfrm>
            <a:off x="1908000" y="1341360"/>
            <a:ext cx="55436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рисунок 2"/>
          <p:cNvPicPr/>
          <p:nvPr/>
        </p:nvPicPr>
        <p:blipFill>
          <a:blip r:embed="rId1"/>
          <a:stretch/>
        </p:blipFill>
        <p:spPr>
          <a:xfrm>
            <a:off x="755640" y="1341360"/>
            <a:ext cx="7704000" cy="53578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«Что перепутал художник</a:t>
            </a: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«Найди отличия»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3" name="Рисунок 16" descr=""/>
          <p:cNvPicPr/>
          <p:nvPr/>
        </p:nvPicPr>
        <p:blipFill>
          <a:blip r:embed="rId1"/>
          <a:srcRect l="0" t="6222" r="0" b="0"/>
          <a:stretch/>
        </p:blipFill>
        <p:spPr>
          <a:xfrm>
            <a:off x="611280" y="1413000"/>
            <a:ext cx="792000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Зрительные графические диктанты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5" name="Picture 7" descr="Рисунок5"/>
          <p:cNvPicPr/>
          <p:nvPr/>
        </p:nvPicPr>
        <p:blipFill>
          <a:blip r:embed="rId1"/>
          <a:stretch/>
        </p:blipFill>
        <p:spPr>
          <a:xfrm>
            <a:off x="250920" y="1628640"/>
            <a:ext cx="4038480" cy="4537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Изображение 175"/>
          <p:cNvPicPr/>
          <p:nvPr/>
        </p:nvPicPr>
        <p:blipFill>
          <a:blip r:embed="rId2"/>
          <a:stretch/>
        </p:blipFill>
        <p:spPr>
          <a:xfrm>
            <a:off x="4716360" y="1628640"/>
            <a:ext cx="40338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35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ffff"/>
                </a:solidFill>
                <a:latin typeface="Tahoma"/>
              </a:rPr>
              <a:t>Увеличение объема внимани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Сравните предметы между собой. Скажите, чем они похожи и чем отличаются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Сравните предметы между собой. Скажите, чем они похожи и чем отличаются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395280" y="2313000"/>
            <a:ext cx="4321080" cy="3132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4503600" y="2313000"/>
            <a:ext cx="39751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одсчитай, сколько в шарике разных цифр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5" name="Рисунок 7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4098960" cy="52578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6732720" y="1341360"/>
            <a:ext cx="2016000" cy="5183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и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о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о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твер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ятер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Внимание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- это направленность и сосредоточенность нашего сознания на определенном объекте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1"/>
          <a:srcRect l="0" t="12223" r="0" b="0"/>
          <a:stretch/>
        </p:blipFill>
        <p:spPr>
          <a:xfrm>
            <a:off x="4643280" y="3992400"/>
            <a:ext cx="396108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6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Tahoma"/>
              </a:rPr>
              <a:t>Свойства внимани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сосредоточенность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устойчивость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объем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спределение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переключени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35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ffff"/>
                </a:solidFill>
                <a:latin typeface="Tahoma"/>
              </a:rPr>
              <a:t>Развитие концентрации внимания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Корректурные задани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Сосчитай сколько букв</a:t>
            </a:r>
            <a:r>
              <a:rPr b="1" lang="ru-RU" sz="36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«А»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 Ы В А П Е П А К У А В Ы В С М А К П И М С Ч Ы В А М У К В А В С М А К А К У К А В А П М С М А В С Ч Ы У В А М П Е К А П П  И Р П М А Ж Е А П М С А С В П Е К У А П И М С Ж В А М П Ж А В К Е А М П А В А П Ш Е Р И В А П Е К А В Ч Ы У К В У В Ы С В К А М П Р А М С Ы В С М А А П И М С Ч Ы И М А Н П А В Ы В А П М С В  А В С М А К А К У К А В А П М С М А В С Ч Ы У В А С И Р П М А Р П М С М П А В К Е А П М С А С В П Е К У А П И М С В А М П А В  К Е А Р И М О В С А М П А К В А 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Корректурные задани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Сосчитай сколько цифр «5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 4 2 3 6 5 8 8 8 9 6 5 3 2 4 1 0 0 2 5 8 0 1 2 3 6 0 2 5 0 9 8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0 3 6 9 0 5 4 8 0 2 1 8 0 5 6 8 7 9 9 0 2 3 1 0 5 0 0 3 6 5 9 8 8 5 6 3 2 4 1 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2 5 1 2 3 3 6 5 8 9 6 5 3 2 4 1 0 0 2 5 8 0 1 2 3 6 0 7 5 0 4 5 1 0 2 5 0 9 8 0 3 6 9 0 5 4 8 0 2 1 8 0 5 6 8 7 9 9 0 2 3 1 0 1 0 0 3 6 5 9 8 8 5 6 3 2 4 1 5 2 4 8 9 6 9 8 7 5 4 5 2 3 6 9 8 7 5 1 4 4 7 7 9 6 3 5 2 6 5 9 8 7 4 2 3 6 5 8 9 6 5 3 2 4 1 0 0 2 5 0 1 2 3 6 9 6 9 8 7 5 4 3 5 4 6 5 2 5 8 9 6 5 4 8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Методика Мюнстерберга</a:t>
            </a: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 (и ее модификации)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Найди спрятанные сло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 П Р П А В И С О Л Н Ц Е В Т А О Р Ш А Р А К Е И Г У О У Н Г Ш К В М Я Ч Л О А А П Р ОУ Ш Г К А Р Т И Н А К Н Р Ч И Т Я Б Л О К О О Р А А П Р С М И Р М С Г Ш Щ Ш Л Р Е О Ы Л Д О В Т Е Л Е Ф О Н Ф Ж Д Ы Л З О Н Т В Ш К Е Р О Ч С Т И Р В А П Р О М А Ш И Н А П И О Л Л Ю С А Д А С И Н А Р В Ы Л О А Р Н Е Г К У А И С Т У Л  Н П Р О Л Д С Н К В А Г О Н О Р П О В А И У Р О Л В Р Е Б Л Е Н  П И Н Г В И Н  Н К Р О С Т О К В П Ы Р Л Б Щ 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«Перепутанные линии»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4" descr="рисунок 3"/>
          <p:cNvPicPr/>
          <p:nvPr/>
        </p:nvPicPr>
        <p:blipFill>
          <a:blip r:embed="rId1"/>
          <a:stretch/>
        </p:blipFill>
        <p:spPr>
          <a:xfrm>
            <a:off x="250920" y="2276640"/>
            <a:ext cx="3827520" cy="343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рисунок 3"/>
          <p:cNvPicPr/>
          <p:nvPr/>
        </p:nvPicPr>
        <p:blipFill>
          <a:blip r:embed="rId2"/>
          <a:stretch/>
        </p:blipFill>
        <p:spPr>
          <a:xfrm>
            <a:off x="3741840" y="2239920"/>
            <a:ext cx="49165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еречисли предметы, назови общим словом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1336680" y="1981080"/>
            <a:ext cx="6469200" cy="41148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5003640" y="5516640"/>
            <a:ext cx="3672000" cy="718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66"/>
                </a:solidFill>
                <a:latin typeface="Times New Roman"/>
              </a:rPr>
              <a:t>игрушк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11:40:42Z</dcterms:created>
  <dc:creator>Капуста</dc:creator>
  <dc:description/>
  <dc:language>en-US</dc:language>
  <cp:lastModifiedBy>User</cp:lastModifiedBy>
  <dcterms:modified xsi:type="dcterms:W3CDTF">2022-01-11T14:28:00Z</dcterms:modified>
  <cp:revision>20</cp:revision>
  <dc:subject/>
  <dc:title>Слайд 1</dc:title>
</cp:coreProperties>
</file>