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B22-1908-411F-B6D4-464AAEFD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2F1-82EC-469D-8B0F-68EBB25A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577-E0BB-443D-8D22-542965A0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DB8-0555-4B07-81D6-46212945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25D-6E93-4E58-847B-5B39F226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AD6-EF6A-4CAE-B646-1795B7A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3E4-1745-41AA-8374-546FC6B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36B-3293-4870-B327-EDE2EE3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BC9-2EC7-48D2-A9F1-7EB5171E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96C-2F7F-4153-8DED-28FF8B9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3A8-3F1C-4D8F-A3F2-67D9547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048-E24C-44EB-BCEC-EA838BE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0873-D66C-4D30-8AC7-D789C14D73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User</cp:lastModifiedBy>
  <dcterms:modified xsi:type="dcterms:W3CDTF">2022-01-11T14:28:00Z</dcterms:modified>
  <cp:revision>20</cp:revision>
  <dc:subject/>
  <dc:title>Слайд 1</dc:title>
</cp:coreProperties>
</file>