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B5A-8193-45A3-8D95-8E1AF1CE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0F3-EF0C-4CE6-811C-44B3F0BA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147-0A7E-4B9C-B490-48CFC94C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E21-CDBC-4220-9524-ACB4E26A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FDD-C8ED-4B55-A934-BA49871F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04B-1C36-40DD-8AE7-EE6B7A1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7B4-42B2-486F-A058-78F18CF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3A5-1837-4A26-BE7B-1A09CE1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B6B-B485-4432-8481-75AC9A63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414-93DA-4CB4-8286-CFFFEE7E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BA1-502A-46A2-AAB0-B05BBBE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D80-BCA2-4B6E-9829-1CFB911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E16-B8B5-44FA-93BC-9B750CC49D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User</cp:lastModifiedBy>
  <dcterms:modified xsi:type="dcterms:W3CDTF">2022-01-11T14:28:00Z</dcterms:modified>
  <cp:revision>20</cp:revision>
  <dc:subject/>
  <dc:title>Слайд 1</dc:title>
</cp:coreProperties>
</file>